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453-E4E4-419E-B4BB-2D0F227A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D4F-82BD-44C8-A7E4-E20DAF01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85C-7FA7-4A80-8F65-B1E3DEDE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685-6282-402E-9A24-C5DD2F1F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62B-7E3F-42AE-9CD6-ED1C884D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67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7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014-E4AD-45C6-8550-D561DBD7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A59-A8F4-4009-A795-0ADBD12E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A9C-B8D7-41F8-A140-01C96EB1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5AB-152C-47D4-B311-48F9AA70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9AA-B0E6-4982-AA65-87AAC37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7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3B0-4E25-4809-89B2-B2BC0C4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67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7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8B1-CD1C-4D83-B813-49942BB6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80880"/>
            <a:ext cx="838224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6796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A26C-099B-448D-859B-7F2E0137C1DF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980720" y="647676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67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E8C3-4DC0-4595-906B-5A186F84D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981080"/>
            <a:ext cx="84582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MPLS Interoperability Test Event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nd Recommend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hok Narayanan, Cisco System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shokn@cisc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Schultz, UNH Interoperability Lab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chultz@iol.unh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8E3F-D4D9-4E4D-B6B5-F0C5AADD2A1F}" type="datetime3">
              <a:rPr b="0" lang="en-US" sz="2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– Receipt of E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444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should accept Path messages with or without an 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nodes – should accep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nodes – depends on feat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out 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 strict ERO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 ERO (strict or loo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binations (e.g. 1 &amp; 2, 1 &amp;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nodes must clearly document what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6C5-085E-4860-8D55-8D3B503478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- miscellaneo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46560"/>
            <a:ext cx="7772400" cy="45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should behave as per spec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with or without Labe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vConfir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 label for TDM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ET TSpec including Profil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address: Router-ID or other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template address: Router-ID or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-ID Acks: from Router-ID or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should document features that they support for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29F-1E48-4B68-A956-F34DE61E74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44520"/>
            <a:ext cx="77724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ested GMPLS RSVP/T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und a limited set of issues with the draft specifications, as per our tes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so provide some implementation recommendations to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in Test Plan &amp; Results White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mplsforum.org/NGNev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F39-9C82-481C-A116-8BA6AE44FB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64360"/>
            <a:ext cx="8077320" cy="39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PLS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H Interoperability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il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Connection Ltd (D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Plane Systems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Test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camor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432-C47B-49D7-A86D-1CB825AB65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981440"/>
            <a:ext cx="7772400" cy="34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GMPLS Interoperability Tes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for CCAMP WG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for vendor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790-CF2D-4FC2-B06B-2360F8BE9C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GMPLS Inter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13440"/>
            <a:ext cx="81532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d at UNH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ing for GMPLS demo at NGN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by The MPL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ter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Juni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witc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c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ulated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plane, D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Eqpt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nt, Net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B88-C035-4117-B9F2-4A99F1CC5F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GMPLS Inter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opology-resized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A85-EC36-4AE4-BA4D-0E7B125B7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of GMPLS Inter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97040"/>
            <a:ext cx="777240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d multi-vendor L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Ps signaled using GMPLS RSVP/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ally routed (no OSPF/TE, no L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e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ntrol Etherne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 data traffic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, some loose ERO support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in Test Plan &amp; Results White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mplsforum.org/NGNev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A25-E2BB-4780-8C5E-9C3EFF522E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G Issues – ResvConf 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3252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B ResvConf message addressed to…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Requester (as in RFC22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ResvConf to non-participant in LSP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vConf can propagate without LSP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integrity keys between end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-hop (like PathT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require extra integrity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vConf cannot propagate without LSP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vConf must be to participant in LSP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: Next-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morphic to Resv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standards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9F9-D3B2-4632-999B-8B04583DD7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– Port lab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8040"/>
            <a:ext cx="84582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rt label value for FSC/LS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specifies label mapping is 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“agreed” on interface-index (what about numbere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apping of label same as interface-index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viewed this 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Must use privat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mapping independent of interface-index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s should implement remot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label map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ed or discovered (L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iance on interface-index mapping or any network-global label mapping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s to FSC or LSC, numbered or unnumb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3.2.1.1,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raft-ietf-mpls-generalized-signaling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355-DF7E-4E67-BCB7-06AEDBCBBA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– Signaling 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41080"/>
            <a:ext cx="8001000" cy="47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band signaling: “control” IP add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F-ID HOP and ERROR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estination address of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: address of msg outpu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ause instability during CC change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P “control” address must change for Resv reac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-IDs invalid across CC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 a stabl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-ID is a good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routing (IGP/LMP/static) for reach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ive any ctr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not responsible for unstable ctr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E2E-B98A-457A-9725-9BD22FA197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dor Issues - TSpe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49920"/>
            <a:ext cx="838224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generate SONET/SDH TSpe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aft-ietf-ccamp-gmpls-sonet-sdh-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any SONET-encoded LSP. Vendors disagr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aft-ietf-ccamp-gmpls-sonet-sdh-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for TDM switching or speci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PathError include TSp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2205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lt;sender_descripto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tional in Path and PathError, but PathError reflects from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3209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lt;sender_descripto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d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2205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lt;sender_descriptor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both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DER_TEM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DER_T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thError for LS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T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34D-8E99-4A6C-AAF9-045A4FFA51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23:13:39Z</dcterms:created>
  <dc:creator>ashokn</dc:creator>
  <dc:description/>
  <dc:language>en-US</dc:language>
  <cp:lastModifiedBy>rbonica</cp:lastModifiedBy>
  <dcterms:modified xsi:type="dcterms:W3CDTF">2002-11-21T14:00:19Z</dcterms:modified>
  <cp:revision>98</cp:revision>
  <dc:subject/>
  <dc:title>UNH IOL GMPLS Interoperability Experiences and Recommendations</dc:title>
</cp:coreProperties>
</file>