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BD17A-FBDE-44FC-A7D9-304F94B424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FD2F0-EDAC-4C9A-82B1-C0E7E093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5EFE8-487B-4AEF-9978-F04E3ED9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95238-427D-4A74-ADF9-FBF5676D27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30836-983F-44D3-91B5-C7FF6C639A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E4078-E3D1-4AF1-A984-40229201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651BD-622C-4CAF-9FED-0E68DD8A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E3F10-ECA6-4925-A5C9-11994802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A0168-2EBA-42B2-B8D2-7B04E604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96F4D-AC77-4A21-83AC-FF929FE2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BB970-8873-4EC8-965D-44291D6C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4228F-B071-4848-A4E6-7E45FA25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E3682-B3D0-4743-9AF3-62A02F18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BEE47-274F-46D8-9282-1DCF8068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19973-27E2-4479-9936-3F9B3B94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FF41D-2548-4307-9353-6BEEFDBC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C5D5C-52AC-4FAB-B06B-D1A70037B6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9C637-6098-46E3-90D8-76D12AA1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AD47A-E6C5-4BEA-B893-61EB4F35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02830-363F-411F-B3B2-31261FD6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21187-399E-498B-93C4-0D44F209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631E0-84BA-4F4E-AE4B-D90F9DED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F15B2-0131-4E64-8953-8187E144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AFE06-FDF8-43D0-B926-DE2F2871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94EE-B8F5-425E-8D52-A03DDC449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1828800" y="5715000"/>
            <a:ext cx="457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U-T Study Group 1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FEA7-1200-4DE2-94A9-67E0D2C38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828800" y="5715000"/>
            <a:ext cx="457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U-T Study Group 1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cc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cc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tf.org/IESG/liaison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ITU-T Study Group 15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 Communication to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IETF CCAMP Working Group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to IETF ccamp from ITU-T Study Group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gnalling protocol work in Q.14/15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cation of Relevant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tp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://sg15opticalt: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otxchange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@ftp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itu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int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/_x000b_tsg15opticaltransport/_x000b_COMMUNICATIONS/index.htm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ttp://www.ietf.org/IESG/liaison.html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gnaling Protocol Work in Q.14/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wo draft new Recommendations under development for specific protocols for distributed Call and Connection Managemen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 new Recommendation G.7713.2, based on the GMPLS RSVP-TE signalling protocol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 new Recommendation G.7713.3, based on the GMPLS CR-LDP signalling protocol 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oth planned for Consent at January 20-31, 2003 meeting of ITU-T Study Group 15 in Geneva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gnaling Protocol Work in Q.14/15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’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Links provide on ITU-T FTP site where current draft Recommendations G.7713.2 and G.7713.3 can be downloaded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lease provide any comments via contributions or liaison statements to ITU-T Study Group 15 prior to the January 2003 meeting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required by IE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ublication of base GMPLS documents as proposed standard RFCs to satisfy normative referenc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-ietf-mpls-generalized-signaling-09.tx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-ietf-mpls-generalized-cr-ldp-07.tx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-ietf-mpls-generalized-rsvp-te-09.tx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Note: These are all approved as proposed standard and awaiting publication in the RFC-Editor’s queue. RFC numbers are needed prior to January 20, 2003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required by IETF, continu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ssignment of code points for additional error codes/values needed by ASON extensions to GMPL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Requested in Formal Communication from Q.14/15 on May 10, 2002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ttempting to get code point assignment through publication of ASON extensions as informational RFCs: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draft-lin-ccamp-gmpls-ason-rsvpte-04.txt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draft-aboulmagd-ccamp-crldp-ason-ext-01.txt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ote: both currently in RFC-Editor’s queue. Code point assignment needed prior to January 20, 2003.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required by IETF, “wish li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ublication of Transport Technology specific mappings for GMPL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-ietf-ccamp-gmpls-sonet-sdh-07.tx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raft-ietf-ccamp-gmpls-g709-03.tx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f ready prior to January 20, 2003, can be included as normative References in G.7713.2, G.7713.3. If not, can be added later by Amendmen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6:14:21Z</dcterms:created>
  <dc:creator>Zhi-Wei Lin</dc:creator>
  <dc:description/>
  <dc:language>en-US</dc:language>
  <cp:lastModifiedBy>rbonica</cp:lastModifiedBy>
  <dcterms:modified xsi:type="dcterms:W3CDTF">2002-11-21T13:59:24Z</dcterms:modified>
  <cp:revision>13</cp:revision>
  <dc:subject/>
  <dc:title>ITU Liaison for IETF</dc:title>
</cp:coreProperties>
</file>