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53C-FD2F-4E50-B958-032F5CAC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2C9-AD2F-4CA7-84B6-4BA92D6B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18A-B52E-440A-92EB-4C584E16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6F6-B2A0-43F0-B090-41E7752D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4B7-CCB8-4FD7-9E59-53000C01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58F-A7B2-4D83-A3B5-44171F0C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2D7-F11E-482F-9B76-7E87CEE0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05E-4018-4E46-886C-8A0C0993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9CA-B118-4FF1-9940-598D01DF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192-8A23-4F88-AED6-8BFD089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BA9-02AB-455E-81CD-FF21097E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1EB-C129-4AA2-A6A4-1C031858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03C2-1CD2-429E-83CE-F8444A56CD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F0B3-7130-4736-9800-8C5B630D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CCAMP-55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G Document Statu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v 18, 2002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ipped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ase documents for generalized signalin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signaling-09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cr-ldp-07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raft-ietf-mpls-generalized-rsvp-te-09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ny thanks to the Editor, Authors, um, Contributors, ADs, RFC Editors and IANA!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First RFCs to come out of CCAMP WG (jointly with MPLS WG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951-BE85-4396-BAB1-D6F9E974EB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6F359-615B-4271-A30E-6BEEBD2277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ipping 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 base spec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lmp-07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al WG Last Call finished Oct 1, ‘02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comments raised and addressed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w version (-07) ou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 route to IES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5C9-22AA-4A90-9F35-92DB480692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50DA1-1618-437D-9B21-00DA9FFE3E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ell Through the Crack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NET/SDH Extens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sonet-sdh-07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w version posted, all issues clos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ll send to IES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rchitectur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architecture-03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rify that it’s up-to-date, then send to IESG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9EB-3272-4F01-97EE-A2054F39F1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6E73A-BB71-4AFB-9EB5-347A59C312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cked and Ready to G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uting extensions for GMP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gmpls-routing-05.tx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raft-ietf-ccamp-ospf-gmpls-extensions-08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al WG Last Call ended Aug 28, ‘02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o public comments receiv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se will be checked for nits, then sent to the IES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E12-043F-4629-8A9C-EBFEF3E85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1B0DC-EB7D-4C8D-95C2-747D2A469C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formational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MPLS Framework for SONET/SDH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sdhsonet-control-01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ensus to ship to the IESG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gnaling non-standard SONET/SDH featur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gmpls-sonet-sdh-extensions-03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chnical work done, still needs some editorial fixes of ni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0F6-E085-4C3E-BF1C-4F2369F5B2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F84E7-5CA1-490D-A79B-81F446E452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 the Wa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ONET/SDH LMP Test Messag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lmp-test-sonet-sdh-00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Check with ITU/T1.X1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nsus to send this to the IESG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MPLS implementation surve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draft-ietf-ccamp-gmpls-signaling-survey-03.tx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warded to IETF secretary as an Implementation Repor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FEF-3C17-4EB8-8DBD-5F45661E8B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F77BC-CF8A-4E0C-9E03-2DA62D43C4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Progress 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-DWD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gnaling for G.709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MPLS MIB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MP MIB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217-01C8-4075-8FBA-9422702CC1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726F4-7BDD-4E3A-A1B3-F3C74D528C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yriads of Other Doc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you want your docum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cuss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during a CCAMP WG meet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ease send WG chairs email saying how the document fits into CCAMP charter (call out explicit work items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ease begin a discussion of your doc on the mailing list so that you can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discus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not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your documen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ologies for not using open sourc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7F5-BF27-48EE-B2AC-32DE52812B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42F56-7747-471E-81EE-105141709F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37:07Z</dcterms:created>
  <dc:creator>Kireeti Kompella</dc:creator>
  <dc:description/>
  <dc:language>en-US</dc:language>
  <cp:lastModifiedBy>rbonica</cp:lastModifiedBy>
  <dcterms:modified xsi:type="dcterms:W3CDTF">2002-11-21T14:00:41Z</dcterms:modified>
  <cp:revision>6</cp:revision>
  <dc:subject/>
  <dc:title>CCAMP-55</dc:title>
</cp:coreProperties>
</file>