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02A3-548C-4C59-B8EA-089A8E121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B8F2-6BF7-45D3-ACC2-663CEF2A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37A0-30BF-4CFD-ABEC-A20236AED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FA43-1509-4640-B0A7-0DF71B2EC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FFA2-9189-4D08-BC51-1F9E788F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79AE-2417-4F06-9782-4519D866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E194-369F-4C68-BF8F-6334DBFC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3867-432B-4730-8E23-0B4C3302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F7D0-FDE4-42D6-9167-2B4E583D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5B05-B1B6-42C2-BFE1-51623EED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A712-91FF-430E-B30A-14D31711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CBEE-784C-4DC7-AFA7-F1823F47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E039-AB77-4123-8AB9-273D168A62C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A88F-B6FD-4534-B2BD-C24F8FB8B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PLS &amp; GMPL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ol and manage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ri D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lanta 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55 MPLS/GMPLS Management Iss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6E54-AF90-4D3B-9C86-635F368A6BC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0FB39-FF08-489B-BF6F-76E1C4A283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n progres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the mix of optical signals that can operate over a single fib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s available p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 rate per waveleng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of fi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various types of transport sig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naming of 10s of 1000s of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55 MPLS/GMPLS Management Iss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F57E-8BD3-42E5-B84C-54A18DE1992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DA25E1-DFFF-4C3F-AE4C-5096BDA416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C transaction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n progress to suppo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55 MPLS/GMPLS Management Iss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6DE2-AC82-48AE-9318-C904D62227F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E6DAD-2F51-47D7-8B9E-4160EB9907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C Rest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hardware mechanism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ring rest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reserved protection links (1: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Protection Links (1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trig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55 MPLS/GMPLS Management Iss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613D-A751-430A-BC02-978B6B15973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77F7CF-74C4-4A76-AB40-DF91AEAC0D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SMP WG request to CCAMP W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ietf.org/internet-drafts/draft-ietf-gsmp-reqs-04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it requires all that is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MP meets Thursday 13.00 – 15.00 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will b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55 MPLS/GMPLS Management Iss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B7E7-A890-4570-A587-B47C8EA8774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DC664A-7933-4255-9C5A-56B4C7DDA4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many ways to control/manage MPLS &amp; GMP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MIBS the best choice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s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bel swit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55 MPLS/GMPLS Management Iss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6EB6-3E3B-455E-B7DA-53D1C59480C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27B13-CFF6-4306-A808-4A8FE8C730F4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3059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sue 1: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o many control paths between a (G)MPLS Agent/Controll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amp; Label Sw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B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mon choi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ine interface (several flav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available, alway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underuti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deployment in Korea and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dor proprie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 proprie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55 MPLS/GMPLS Management Iss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028B-C974-4D4C-AE1A-8DF3A9A7A7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92C1A3-5198-4543-AE00-1C62F3E4DD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made by one agent/controll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not communicated to the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view of the state of the switch is kept by the agent/controller then state becomes inconsis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tate is not kept, is it efficient to retrieve full state for every deci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55 MPLS/GMPLS Management Iss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7AB0-0F24-4215-9931-7B489AB152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CCF4B1-C455-42C5-8999-4D395CF555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al for issu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should be a requirement that any control or management scheme for GMP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notification by the switch of any changes in state made in the managed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55 MPLS/GMPLS Management Iss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2A1A-ED62-41BC-A634-F758D8E777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B0090A-E933-468E-84BE-AA5757260A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sue 2: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MIBS the best solution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guration and Control of GMP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BS can be used to ‘manage’ anything and lots of people can do MIB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PLS/MPLS MIBS showing rampant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PLS/MPLS MIBS challenging the bounds of sca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flow in GMPLS may be too dynamic for effective management by SN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55 MPLS/GMPLS Management Iss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4E97-AC94-46F7-87D1-4222D80DB8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950957-3E4B-4D0C-B350-026CC6C5C1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poss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)consider use of GSMP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come a long way in the last few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ized support for label switch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 MPLS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currently being fitted with GMPLS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typ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 typ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C transaction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C Restoration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cal Cross connect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cal Burst Switching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 Parti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55 MPLS/GMPLS Management Iss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06D2-D953-4CBE-A096-6D05ECD421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DBF57-70F3-430B-9D8A-AD8DD72E3B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Char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to GSMP necessary for the suppor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cal (non-transparent and all optic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ET/SDH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ial switching of IP packet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2 frames and TDM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MP controllers will then be able to contro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nic cross- connects (optical-optical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arent optical cross connec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ptical-electrical-optical, frame independen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aque cross connec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ptical-electrical-optical, SONET/SDH fra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TDM switches (all electrical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55 MPLS/GMPLS Management Iss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D119-163E-46CB-9018-E497525EB84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63BCA4-FD69-43B8-9B5B-843301663E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el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: ATM, Frame Relay, DS1, DS3, E1, E3, MPLS Generic Labels and MPLS FE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in progres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Carrier Hierarchy (e.g., DS-1, E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ET and SDH Hierarch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OC-3, STM-1, VT1.5, VC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H label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N G.709 lab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mb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Hierarchies and Label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55 MPLS/GMPLS Management Iss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AA33-707B-424A-87FD-A1918B4335D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E807F3-BD37-4899-B1E6-6F4BF60ED2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17:02:31Z</dcterms:created>
  <dc:creator>avri doria</dc:creator>
  <dc:description/>
  <dc:language>en-US</dc:language>
  <cp:lastModifiedBy>rbonica</cp:lastModifiedBy>
  <dcterms:modified xsi:type="dcterms:W3CDTF">2002-11-21T13:57:22Z</dcterms:modified>
  <cp:revision>21</cp:revision>
  <dc:subject/>
  <dc:title>Label Switch  Control and management</dc:title>
</cp:coreProperties>
</file>