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A857-1985-4856-A5DE-93EFAC086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8D2C-45B2-40FB-B07D-C562CE6F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9BB6-D5B9-42E3-AD8C-A74C6499B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4CEE-F65A-4C2F-9158-50BE71C2D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67F2-FF01-4659-9819-8817B8C2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D268-590E-468E-9DE3-AF548F44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BDF1-EDE6-4C57-B45A-A69ED72E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0C22-96FA-4159-A487-B2AF87B0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F80A-31D7-42CE-90AE-7D80FD1D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A92B-240F-47FF-8249-C1ECC062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3956-AB62-4588-8407-78B229D3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53B5-FADE-43AA-B541-5CCDAA8E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1BAB-9D64-4682-9010-E0B52AC42D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GMPLS for Multi-Region Networ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5562720"/>
            <a:ext cx="81532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imitri.papadimitriou@alcatel.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martin.vigoureux, emmanual.dotaro}@alcatel.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shiomoto.kohei, oki.eiji, matsuura.nobuaki}@lab.ntt.co.j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draft-vigoureux-shiomoto-ccamp-gmpls-mrn-00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586728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343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TF 55 (Atlanta) - November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o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rizontal integration =&gt; multi-area w/ single switching capability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tical integration =&gt; single-area w/ multiple switching capability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tical integration refers to multi-region networks controlled by single GMPLS instance =&gt; MRN: IS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…, IS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with at least n &gt;= 2 for N &gt;=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e: FA positioning wrt integration =&gt; initial iteration of vertical integration (i.e. w/ single switching capability nod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o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ider network with L2SC (e.g. Ethernet) + LSC, L2SC only and LSC only LSRs =&gt; what a Single GMPLS controller instance bring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rease interactions &amp; processing complexity (compared to multiple GMPLS instances) and benefits from single addressing/identification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 switching capabilities =&gt; complexity ~ (n x L) Log (n x N) =&gt; pre-selection (control plane) reduces to ~ n Log(n+1) Log ((Log (n+1) +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n only belong to the CCAMP WG since focus on common protocol aspects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discus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-based virtual topologie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abstract view of network resources without generating “well-known” overlay complexity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ISC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…,ISC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&lt;=&gt; TE Metric unicity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daptation capability - b/w SC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resource capability/ availability and weight for accessing a given switching capabil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SP Setup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curr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su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tia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+ crossing region - switching capability - on a per hop bas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also… as next step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xing several incoming LSP into single tunne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ultiplexing Point &gt;= 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&gt; raising issues ranging from mp2p to mp2mp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common protocol scop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icular C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Constraints &amp; TE Link Selection in Hybrid Photonic Networks (HPN) - 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ion in HPN (depends either on switching or encoding) =&gt; cut through through explicit label control - sign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itability ? Target is NOT exhaustive and fully “universal MPLS” but applicability of common protocols for multiple SC enviro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ification ? Enabling GMPLS collaborative mechanisms by mean of common protocol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ure backward compatibility w/ current GMPLS protocol suite by guaranteeing handled and limited complex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just deliver some alternatives for doing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04:02:43Z</dcterms:created>
  <dc:creator>papadimd</dc:creator>
  <dc:description/>
  <dc:language>en-US</dc:language>
  <cp:lastModifiedBy>rbonica</cp:lastModifiedBy>
  <dcterms:modified xsi:type="dcterms:W3CDTF">2002-11-21T13:57:50Z</dcterms:modified>
  <cp:revision>8</cp:revision>
  <dc:subject/>
  <dc:title>GMPLS Architecture for Multi Region Networks</dc:title>
</cp:coreProperties>
</file>