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B32-490B-469B-8E5A-9D6F1A1E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28F-E61F-40B6-B3E3-AA352FE4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56E-6250-40A4-BDBF-0EC7BFC2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EC7-9AE0-44DC-904C-3EC43BEE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4E0-079E-49BA-803F-F175446B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1C6-3800-4FC0-B3A5-B52B9765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9E8-93F1-434F-B45C-FF14F3CD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4A5-4B69-43BF-9524-4463A3B3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F8D-3B6C-4873-9EA6-7A40581F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6CF-859C-4112-B8D2-B8D0FA14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380-9C41-426B-B252-09A541EA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C21-947C-4334-AA1D-20FD90AF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E761-AF06-4996-802D-FFB6B8ADD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covery Terminology for GMPLS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ft-</a:t>
            </a:r>
            <a:r>
              <a:rPr b="1" lang="fr-B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etf-ccam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gmpls-recovery-terminology-01.txt</a:t>
            </a:r>
            <a:br>
              <a:rPr sz="2600"/>
            </a:br>
            <a:br>
              <a:rPr sz="28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alysis of GMPLS-based Recovery Mechanis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aft-papadimitriou-ccamp-gmpls-recovery-analysis-03.tx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MPLS Recovery Functional Specificatio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aft-bala-gmpls-recovery-functional-01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867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tection &amp; Restoration Design Team - CCAMP 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ETF 55 - Atlanta November’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hared Meshed Recovery &amp; re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 Shared Bandwid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isting sub-TLV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Max LSP Bandwidth, Max Reservable Bandwidth and Unreserved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w sub-TL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including Sharable Bandwidth for Recovery R[i] (initial value max_R[i]) and Bandwidth committed for (shared) Recovery r[i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&gt;  Shared recovery ratio per TE Link = (R[i] + r[i]) / r[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Shared Bandwidth and Disjointn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umber of SRLG (and optionally list of SRLG) recov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arable/Shared Bandwidth per (group of) SRL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 Admission Control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nd the Explicit Route of the working LSP over the recovery LS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 impacting on diversity (lookup in the sub-objects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358128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xt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ve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ptional due to potential second hit during to the reversion switching op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urn-on/-off (default behaviour settable per policy) either through signalling or poli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version op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the same LSP as the one previously under failure (default behaviou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mplies “testing” the LSP (using Admin_Status) before reversion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ses the “bridge and switch” a.k.a “make-before-break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eep possibility (e.g. policy or signalling) to clear out the resources on intermediate nodes if reversion switching not possib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Next Step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5880" y="2852640"/>
            <a:ext cx="18795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5880" y="4664160"/>
            <a:ext cx="18795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nctional 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17640" y="3648240"/>
            <a:ext cx="111780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11560" y="3193920"/>
            <a:ext cx="0" cy="147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3193920"/>
            <a:ext cx="0" cy="45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98952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5880" y="6086520"/>
            <a:ext cx="18795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MPLS Protocol 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35440" y="2909880"/>
            <a:ext cx="48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aft-ietf-ccamp-gmpls-recovery-terminology-01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4757760"/>
            <a:ext cx="408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aft-bala-gmpls-recovery-functional-01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4330800"/>
            <a:ext cx="2641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5695920"/>
            <a:ext cx="2641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404640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rch’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41008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July’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005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37720" y="49100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37720" y="62816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38080" y="3004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ing on the working group consen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phase achievement (~ protocol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report ~ dec’02/jan’03 - Deadline 3q’03 to finalize first phase (including protocol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6576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aft-papadimitriou-ccamp-gmpls-recovery-analysis-03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79132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ug’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6095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Nov’03 (first phase clo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ackup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1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oute Computat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---&gt; On-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&gt; Pre-Comp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2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ignalling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---&gt; On-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&gt; Pre-Signa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3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ource Select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---&gt; On-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&gt; Pre-Se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4)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ource Allocati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quivalent to Contr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ane driven Pro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380988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962520"/>
            <a:ext cx="289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acts the label assignment process - several solutions fea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storation Mechanisms Class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fort Positioning, Status &amp; Tim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371600"/>
            <a:ext cx="281952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105440"/>
            <a:ext cx="281952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unctional Specification (*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743200"/>
            <a:ext cx="1447920" cy="42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182880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1828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32004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4952880"/>
            <a:ext cx="0" cy="107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6010200"/>
            <a:ext cx="281952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MPLS Protocol Spec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144792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ietf-ccamp-gmpls-recovery-terminology-01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743200"/>
            <a:ext cx="579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raft-papadimitriou-ccamp-gmpls-recovery-analysis-03.tx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343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ft-bala-gmpls-recovery-functional-01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6019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version to be issued (after agreement on 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6576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4864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276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ril’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1055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uly’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4920" y="22860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1905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rch’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ug’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19051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</a:rPr>
              <a:t>March’02 (clo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767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Nov’02 (closed ~ Aug’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5105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Nov’02 (closed ~ Nov’02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anks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&amp;R Design T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orah Brung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dheer Dharanik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athan 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ngzhi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ic Man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itri Papadimitri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 Rajagopa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kov Rekh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Recovery phase analys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Phase 1: Failure det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ase 2: Failure localization/is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ase 3: Failure no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ase 4: Recovery (protection/resto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Times New Roman"/>
              </a:rPr>
              <a:t>Phase 5: Reversion (normaliz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ocus on Phase 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covery mechanisms and sc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vides classification of the restoration schem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 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 Focus on Phase 6 - Reversion (Normal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 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Horizontal &amp; vertical hierarchy, Escalation strategies  and Disjoin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 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 Dimensions for recovery Scheme/Strategy analysis: fast convergence, efficiency, robustness &amp; resource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me words about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alysis I-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covery Mechanisms Applic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th Search (computation and sel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e-planned (Pre-signalling)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ynam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faster recovery           | Does not a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less flexible 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1 | - less robust   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most resource consum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|   |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=&gt; LSP protectio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up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relatively fast recovery  | Does not a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relatively flexible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2 | - relatively robust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resource consumption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  depends on sharing degree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=&gt; recovery LSP activation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relatively fast recovery  | - less faster (comput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more flexible             | - most flex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3 | - relatively robust         | - most rob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- less resource consuming   | - least resource consu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(depends on sharing degree) |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=&gt; LSP re-ro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|   | =&gt; reservation + activation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me words about the functional I-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sion -01.txt sub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Details the protocol mechanisms (message exchange) and information to be carried to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implemen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these mechanis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Deliver separately a protocol (message oriented) specification covering the “analyzed” recovery mechanis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me words about the functional I-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pan (Link)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nidirectional 1+1 dedicated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i-directional 1+1 dedicated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dicated 1:1 protection with Extra Traff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hared M:N protection with Extra Traff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d-to-End (LSP/LSP segment)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nidirectional 1+1 dedicated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i-directional 1+1 dedicated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dicated 1:1 recovery with Extra Traff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hared M:N recovery with Extra Traff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hared Meshed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version and other Administrative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ssues and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) Bulk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2) Shared Meshed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3) Re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ulk LSP Recovery on Link fail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case of (component) link failure of a TE Link carrying numerous L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undle notification messages does not need additional extension if within the same Interface-ID TLV (Extended IF_ID Error_Sp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ster for the affected LSPs may be located at each side of the TE link =&gt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wo masters may compete for the same component link (within the same TE link) resource for recovering these L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owever, they may (even prior to the failure) agree on which (common) recovery link these LSPs will be recovered otherwise some fragmentation of the TE link components usage may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46:51Z</dcterms:created>
  <dc:creator>papadimd</dc:creator>
  <dc:description/>
  <dc:language>en-US</dc:language>
  <cp:lastModifiedBy>rbonica</cp:lastModifiedBy>
  <dcterms:modified xsi:type="dcterms:W3CDTF">2002-11-21T13:58:53Z</dcterms:modified>
  <cp:revision>33</cp:revision>
  <dc:subject/>
  <dc:title>Draft-design-team-gmpls-recovery-analysis-00.txt</dc:title>
</cp:coreProperties>
</file>