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F30-B112-401F-89B5-357A72CD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7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1CE-E864-47A4-AB21-FED62FFE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64D-2832-4204-9742-6A833A7C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64E-3BF0-4753-A031-4D8163C7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C5E-FB5C-4A12-9A55-7AFB4BF9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17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D83-415E-4278-A40E-EC987E62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D94-528B-4823-A7E5-51F683FB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FEA-654D-4C4A-B6E9-A0D3DD34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D92-DB35-44AC-96C7-13CB8EAC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9B6-5F50-417E-8E56-B3028DF7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1EA-FFCA-4D2F-9C22-684FFFB5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831-3C05-409C-A3A1-32DB4548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80880"/>
            <a:ext cx="838224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E944-07AC-4ECF-B07B-BFE36C391E19}" type="datetime5">
              <a:rPr b="0" lang="en-US" sz="12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980720" y="6476760"/>
            <a:ext cx="571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67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55C4-22E5-4A20-8234-F98AC4130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981080"/>
            <a:ext cx="84582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MPLS Interoperability Test Event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nd Recommend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hok Narayanan, Cisco System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shokn@cisc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Schultz, UNH Interoperability Lab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chultz@iol.unh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BB07-451D-4115-88FB-629AD21F7383}" type="datetime3">
              <a:rPr b="0" lang="en-US" sz="2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– Receipt of ER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444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should accept Path messages with or without an 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 nodes – should accep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nodes – depends on featur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out 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 strict ERO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 ERO (strict or lo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binations (e.g. 1 &amp; 2, 1 &amp;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nodes must clearly document what they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30F-6860-4B8F-AC5A-5E21B42520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- miscellaneo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46560"/>
            <a:ext cx="7772400" cy="45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should behave as per spec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with or without Labe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vConfir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 label for TDM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 TSpec including Profil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address: Router-ID or other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template address: Router-ID or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-ID Acks: from Router-ID or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should document features that they support for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6E7-CC5D-44CD-B44F-CB02290896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44520"/>
            <a:ext cx="77724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ested GMPLS RSVP/T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und a limited set of issues with the draft specifications, as per our tes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so provide some implementation recommendations to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in Test Plan &amp; Results White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www.mplsforum.org/NGNev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2BB-FF18-49C8-A6CB-94F5EF8109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764360"/>
            <a:ext cx="8077320" cy="39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PLS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H Interoperability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gilen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Connection Ltd (D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nip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Plane Systems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Test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camor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9C8-21E9-423D-AEE4-BBADD98D6C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1981440"/>
            <a:ext cx="7772400" cy="34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GMPLS Interoperability Tes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for CCAMP WG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for vendor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1AD-0468-4B3A-AA16-F8C7B16917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GMPLS Inter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13440"/>
            <a:ext cx="81532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d at UNH Interoperabilit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ing for GMPLS demo at NGN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by The MPLS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uter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Juni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witc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c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ulated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plane, D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Eqpt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nt, Net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7B9-CD78-46B2-B3F2-276D1D1182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GMPLS Inter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opology-resized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547-39CD-443E-8601-6C1FB456DA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of GMPLS Inter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97040"/>
            <a:ext cx="777240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d multi-vendor L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Ps signaled using GMPLS RSVP/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ally routed (no OSPF/TE, no L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ed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ontrol Ethernet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 data traffic whe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, some loose ERO support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in Test Plan &amp; Results White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www.mplsforum.org/NGNev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CDC-3406-49E5-8B01-36F2618EFD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G Issues – ResvConf 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3252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B ResvConf message addressed to…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Requester (as in RFC22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ResvConf to non-participant in LSP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vConf can propagate without LSP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integrity keys between end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-hop (like PathT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n’t require extra integrity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vConf cannot propagate without LSP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vConf must be to participant in LSP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: Next-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morphic to Resv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standards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A9D-AF9A-4230-823A-13E2D39F9E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– Port lab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8040"/>
            <a:ext cx="84582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rt label value for FSC/LS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specifies label mapping is 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s “agreed” on interface-index (what about numbered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mapping of label same as interface-index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s viewed this a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Must use privat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mapping independent of interface-index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s should implement remote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 label map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ed or discovered (L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iance on interface-index mapping or any network-global label mapping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es to FSC or LSC, numbered or unnumb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3.2.1.1,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draft-ietf-mpls-generalized-signaling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C82-9122-4025-AEE0-1D48CB8337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– Signaling 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441080"/>
            <a:ext cx="8001000" cy="47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band signaling: “control” IP add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IF-ID HOP and ERROR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estination address of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: address of msg outpu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ause instability during CC change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P “control” address must change for Resv reach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-IDs invalid across CC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 a stabl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-ID is a good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routing (IGP/LMP/static) for reach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eive any ctr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not responsible for unstable ctr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90F-D884-4F17-80EB-A8A7E82340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- TSpe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49920"/>
            <a:ext cx="838224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generate SONET/SDH TSpe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: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aft-ietf-ccamp-gmpls-sonet-sdh-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any SONET-encoded LSP. Vendors disagr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aft-ietf-ccamp-gmpls-sonet-sdh-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for TDM switching or speci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PathError include TSp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2205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lt;sender_descriptor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onal in Path and PathError, but PathError reflects from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3209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lt;sender_descriptor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d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2205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lt;sender_descriptor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both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DER_TEM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DER_T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thError for LS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T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B0C-DCE9-4662-9D15-9B44047DF4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23:13:39Z</dcterms:created>
  <dc:creator>ashokn</dc:creator>
  <dc:description/>
  <dc:language>en-US</dc:language>
  <cp:lastModifiedBy>rbonica</cp:lastModifiedBy>
  <dcterms:modified xsi:type="dcterms:W3CDTF">2002-11-21T14:00:19Z</dcterms:modified>
  <cp:revision>98</cp:revision>
  <dc:subject/>
  <dc:title>UNH IOL GMPLS Interoperability Experiences and Recommendations</dc:title>
</cp:coreProperties>
</file>