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F5B8-91AA-4929-9C1B-58CA4E90E6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76AE-1002-495E-85E3-8F5B4D22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2EE2-5D2B-47E4-B93A-8D6B453F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BDEA-146F-4442-ADDC-82E582063C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F4FC9-444E-4BB2-A4D9-E8E4F7D304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5007A-8BB3-4AC7-90DE-B897EF67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F6B2C-10D4-4E76-B738-1B0EAA13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A4D1A-2911-4183-AC8C-E7F1FFA2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7F5CD-F26B-463F-B25D-AC4509FE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3D535-AA22-4E1C-9FFA-AC36D77F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CD141-AC74-41D7-BB46-839D6EDF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5CCE-AD24-4BDB-A36E-66C93639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E481A-7714-4015-91F8-EF01C57E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EA65E-2A4A-4AF2-8C3C-31277E72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16B33-6847-4DCF-A57D-77D13839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7AE07-0AD4-401A-817A-87F6716A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496FA-D625-47A6-850E-6E970BB1BD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67C6-2AA4-47EE-8E33-7B7EBA24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54A6-6B96-40F0-AEB8-21C9E3B6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3FDC-FA47-49F8-AB27-9EAED13A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D8EE-61C2-42C6-8C90-8C42878B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6B13-AB5E-4139-89F4-47CED22D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B001-10E0-49B9-90DF-EF4DD8FC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93A2A-0F35-4C5D-8332-BA231356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CCA8-0A07-4670-887E-4BE8FF6E2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828800" y="5715000"/>
            <a:ext cx="45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U-T Study Group 1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EB82-0205-4FAB-A930-0F98C6B84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28800" y="5715000"/>
            <a:ext cx="45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U-T Study Group 1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cc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cc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tf.org/IESG/liaison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ITU-T Study Group 15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 Communication to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IETF CCAMP Working Group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to IETF ccamp from ITU-T Study Group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gnalling protocol work in Q.14/15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tion of Relevant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p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://sg15opticalt: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otxchange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@ftp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itu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int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/_x000b_tsg15opticaltransport/_x000b_COMMUNICATIONS/index.htm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www.ietf.org/IESG/liaison.html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naling Protocol Work in Q.14/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wo draft new Recommendations under development for specific protocols for distributed Call and Connection Managemen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 new Recommendation G.7713.2, based on the GMPLS RSVP-TE signalling protocol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 new Recommendation G.7713.3, based on the GMPLS CR-LDP signalling protocol 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oth planned for Consent at January 20-31, 2003 meeting of ITU-T Study Group 15 in Geneva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naling Protocol Work in Q.14/15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’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Links provide on ITU-T FTP site where current draft Recommendations G.7713.2 and G.7713.3 can be downloaded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lease provide any comments via contributions or liaison statements to ITU-T Study Group 15 prior to the January 2003 meeting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required by IE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ublication of base GMPLS documents as proposed standard RFCs to satisfy normative referenc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mpls-generalized-signaling-09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mpls-generalized-cr-ldp-07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mpls-generalized-rsvp-te-09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te: These are all approved as proposed standard and awaiting publication in the RFC-Editor’s queue. RFC numbers are needed prior to January 20, 2003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required by IETF, 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ssignment of code points for additional error codes/values needed by ASON extensions to GMPL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Requested in Formal Communication from Q.14/15 on May 10, 2002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ttempting to get code point assignment through publication of ASON extensions as informational RFCs: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raft-lin-ccamp-gmpls-ason-rsvpte-04.txt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raft-aboulmagd-ccamp-crldp-ason-ext-01.txt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ote: both currently in RFC-Editor’s queue. Code point assignment needed prior to January 20, 2003.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required by IETF, “wish l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ublication of Transport Technology specific mappings for GMPL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ccamp-gmpls-sonet-sdh-07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ccamp-gmpls-g709-03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f ready prior to January 20, 2003, can be included as normative References in G.7713.2, G.7713.3. If not, can be added later by Amendmen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14:21Z</dcterms:created>
  <dc:creator>Zhi-Wei Lin</dc:creator>
  <dc:description/>
  <dc:language>en-US</dc:language>
  <cp:lastModifiedBy>rbonica</cp:lastModifiedBy>
  <dcterms:modified xsi:type="dcterms:W3CDTF">2002-11-21T13:59:24Z</dcterms:modified>
  <cp:revision>13</cp:revision>
  <dc:subject/>
  <dc:title>ITU Liaison for IETF</dc:title>
</cp:coreProperties>
</file>