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1F6-3879-42C7-B8E1-880B7E2E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064-9E7D-4C2D-9D4C-8ABEA9E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FCA-7B5D-4CB8-B418-6CC0DDC0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B7E-CCA0-45F3-9194-6C78A746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FB9-B1C0-437C-97AD-2CBB58D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01E-EF67-47EE-916F-A039213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509-2596-43EB-BAF3-E6B7FE8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E50-6789-4CFC-9BC3-8B5A3455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2E7-D182-4668-A011-DCBF6F65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7FB-6658-4C56-84B2-C53B740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96C-1249-48AF-849D-100A5AE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52D-34A6-4B81-9826-76A4500A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8C12-574A-4DF9-AFFD-D2E668B2D2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C5E9-C9E1-4839-8388-2B2EAC26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CCAMP-55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G Document Statu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v 18, 2002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ipped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ase documents for generalized sign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signaling-09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cr-ldp-07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rsvp-te-09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ny thanks to the Editor, Authors, um, Contributors, ADs, RFC Editors and IANA!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First RFCs to come out of CCAMP WG (jointly with MPLS W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2DB-3C0A-46DA-A5D6-3C419D3803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32B59-C19B-4E97-BC4F-8DF7150C16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ipping 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 base spec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lmp-07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al WG Last Call finished Oct 1, ‘02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comments raised and addressed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w version (-07) ou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 route to IES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D4C-0BB8-4124-8300-66253FE90D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9DD9D-BDA8-4C14-9EA8-06ACE9AC05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ell Through the Crack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NET/SDH Extens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sonet-sdh-07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w version posted, all issues clos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ll send to IES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rchitectur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architecture-03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rify that it’s up-to-date, then send to IES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53C-5BB9-4B9F-9DC0-1BA3CC5AA2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02BBB-887B-47EB-9CA7-8A07A3F325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cked and Ready to G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uting extensions for GMP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routing-05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ospf-gmpls-extensions-08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al WG Last Call ended Aug 28, ‘02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o public comments receiv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se will be checked for nits, then sent to the IES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28C-35EF-4316-8EE7-B0B0E66F90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7C6D4-BE15-4781-8464-B5A32B81B3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formational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MPLS Framework for SONET/SDH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sdhsonet-control-01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ensus to ship to the IESG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gnaling non-standard SONET/SDH featu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gmpls-sonet-sdh-extensions-03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chnical work done, still needs some editorial fixes of ni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810-27DA-4C83-BFE0-98E98DDECA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9F478-B3BD-4EDF-8E06-841402203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 the Wa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ONET/SDH LMP Test Messag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lmp-test-sonet-sdh-00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heck with ITU/T1.X1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nsus to send this to the IESG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MPLS implementation surve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gmpls-signaling-survey-03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warded to IETF secretary as an Implementation Repor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D8A-12AE-432F-B601-27F47723B3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804CB-928A-40AA-823C-DF6AD6ABC9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Progress 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-DWD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gnaling for G.709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MPLS MIB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 MIB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860-DB3C-409C-A108-A9D454C202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4BA0-2B2E-43B3-AB34-536AEB247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riads of Other Doc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want your docum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cuss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during a CCAMP WG meet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ease send WG chairs email saying how the document fits into CCAMP charter (call out explicit work item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ease begin a discussion of your doc on the mailing list so that you ca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iscus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not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your documen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D4F-E5BC-4892-B4E0-5A320CA811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1FFB9-DB7D-4A3B-BFFE-DCCFCE98A0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37:07Z</dcterms:created>
  <dc:creator>Kireeti Kompella</dc:creator>
  <dc:description/>
  <dc:language>en-US</dc:language>
  <cp:lastModifiedBy>rbonica</cp:lastModifiedBy>
  <dcterms:modified xsi:type="dcterms:W3CDTF">2002-11-21T14:00:41Z</dcterms:modified>
  <cp:revision>6</cp:revision>
  <dc:subject/>
  <dc:title>CCAMP-55</dc:title>
</cp:coreProperties>
</file>