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90B-90C4-4544-92F3-65F519A9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DB1-FACF-4564-A6DC-6741462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0AB-0E0A-4B66-B2F5-2573E468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DA2-5E95-4578-83BE-137462B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C7D-C3A4-4078-B390-D5854C38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08E-5035-4DAB-99F6-4ED04B8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0CB-11B9-42BE-B67F-2391A57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35F-43CB-4729-8C9A-0F0EEF8E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EEF-0CEB-43ED-ADDA-80ED5A0B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575-86F5-4D3C-8700-CB1FE21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265-F811-4D59-AA3A-154FCD4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302-CA63-4196-AB85-89A4A0F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CDB-BFB4-4D16-979F-6AC1544C86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14A-CD87-472C-A4F9-4AE9CF09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LS &amp; GMP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and manag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ri D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a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D9B-912D-4907-B7FF-BFFDF8659D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FC68F-62C9-443D-94CC-FC2A0C1F94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mix of optical signals that can operate over a single fi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s available p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rate per wavel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i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arious types of transpor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ming of 10s of 1000s of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C29-D862-40AD-A0B9-4F3BF28E42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8467A-0C16-41DE-897C-AD0EC5C538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418-480F-432D-A7B9-18B6EED72F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2C303-B7BE-4742-A7A0-BBE541D5F6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hardware mechanis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ing rest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reserved protection links (1: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Protection Links 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DA4-A956-4D03-B955-49CDD7F213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C00BA-4FC1-42ED-A35B-E7416EAD4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SMP WG request to CCAMP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ietf.org/internet-drafts/draft-ietf-gsmp-reqs-04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it requires all that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meets Thursday 13.00 – 15.00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will b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B6B-06D2-42D8-9092-D0CCF34BB4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B84CB-826B-475E-A0A5-6DD31D0A84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ways to control/manage MPLS &amp;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choic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bel swi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AE7-86ED-41F0-9A78-49618695CE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D812B-87B0-4A5A-B122-F9D45F7B792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1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 many control paths between a (G)MPLS Agent/Controll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Label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 cho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interface (several flav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available, alway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under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eployment in Korea and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245-80EA-4CAC-9661-C0B63DEA3E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08513-F037-4822-A4E0-0A02EAE5DC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de by one agent/contro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ot communicated to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iew of the state of the switch is kept by the agent/controller then state becomes in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 is not kept, is it efficient to retrieve full state for every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7B6-D0B5-4963-838F-3E3C9A7A0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AFCDF-0376-4A0F-AF3E-261B036E2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for issu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be a requirement that any control or management scheme for G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notification by the switch of any changes in state made in the manag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FF9-E9D9-42ED-9099-FA0CF0F61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C49A2-0908-41C6-8645-C24970903A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2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solution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and Control of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BS can be used to ‘manage’ anything and lots of people can do M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showing rampant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challenging the bounds of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low in GMPLS may be too dynamic for effective management by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243-BF15-4D90-B51F-CD31B7F7A4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D786-F333-463D-BD69-5A839A67B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o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consider use of GSMP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ome a long way in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support for label switc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MPL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urrently being fitted with GMPL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Restor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ross connec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Burst Switch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art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179-7B8A-4060-BFC1-005534827F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354C7-8F4E-4944-995D-71A68A2E81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GSMP necessary for the suppor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(non-transparent and all op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/SDH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witching of IP pack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 frames and TDM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controllers will then be able to contro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ic cross- connects (optical-optica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optical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frame independ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SONET/SDH fr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TDM switches (all electric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EF2-2631-4BF6-9A57-C99AF9B439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995F2-5375-486D-9A5A-01A5D225D9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: ATM, Frame Relay, DS1, DS3, E1, E3, MPLS Generic Labels and MPLS FE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rogre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rrier Hierarchy (e.g., DS-1, E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and SDH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C-3, STM-1, VT1.5, VC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H labe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N G.709 lab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Hierarchies and Label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F96-CF12-4DB4-BF05-3DA69FA0DA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1013F-1AD7-4B18-8D6F-E233C4203E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7:02:31Z</dcterms:created>
  <dc:creator>avri doria</dc:creator>
  <dc:description/>
  <dc:language>en-US</dc:language>
  <cp:lastModifiedBy>rbonica</cp:lastModifiedBy>
  <dcterms:modified xsi:type="dcterms:W3CDTF">2002-11-21T13:57:22Z</dcterms:modified>
  <cp:revision>21</cp:revision>
  <dc:subject/>
  <dc:title>Label Switch  Control and management</dc:title>
</cp:coreProperties>
</file>