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D608-A49A-4ED0-B206-B4321D8A9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8348-3586-41E0-B69A-B11BF0424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DC0A-DFCB-4DB8-891E-E85DDB99D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1FFC-1DDE-4223-9EB4-89053164E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550F-04EB-49BF-8FB5-330ECFA58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B5D2-DAFC-44EB-8A0D-E442131E1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D818-17BB-4997-A92A-296ABE46B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96B8-3B19-4D80-B8BD-707BD46C8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AF56-B17A-47F8-89F8-AD220FA48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4595-B5C7-4C51-9FC8-60ED70D83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1B5E-4BC2-4B4D-AD5D-B03DBD3A9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5A13-4FC3-4B06-B895-DC8FF2462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2F617-5A2D-4FD7-8835-3C480531BBB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GMPLS for Multi-Region Network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5562720"/>
            <a:ext cx="815328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dimitri.papadimitriou@alcatel.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{martin.vigoureux, emmanual.dotaro}@alcatel.f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{shiomoto.kohei, oki.eiji, matsuura.nobuaki}@lab.ntt.co.j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3623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draft-vigoureux-shiomoto-ccamp-gmpls-mrn-00.t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295280" y="586728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43434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ETF 55 (Atlanta) - November 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tion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orizontal integration =&gt; multi-area w/ single switching capability no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Vertical integration =&gt; single-area w/ multiple switching capability no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Vertical integration refers to multi-region networks controlled by single GMPLS instance =&gt; MRN: ISC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…, ISC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with at least n &gt;= 2 for N &gt;= 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ote: FA positioning wrt integration =&gt; initial iteration of vertical integration (i.e. w/ single switching capability nod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tion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nsider network with L2SC (e.g. Ethernet) + LSC, L2SC only and LSC only LSRs =&gt; what a Single GMPLS controller instance brings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crease interactions &amp; processing complexity (compared to multiple GMPLS instances) and benefits from single addressing/identification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 switching capabilities =&gt; complexity ~ (n x L) Log (n x N) =&gt; pre-selection (control plane) reduces to ~ n Log(n+1) Log ((Log (n+1) +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an only belong to the CCAMP WG since focus on common protocol aspects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o we discuss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A-based virtual topologies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abstract view of network resources without generating “well-known” overlay complexity)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A ISC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…,ISC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&lt;=&gt; TE Metric unicity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daptation capability - b/w SC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resource capability/ availability and weight for accessing a given switching capabilit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SP Setup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ncurren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versu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quential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(+ crossing region - switching capability - on a per hop basi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t also… as next step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plexing several incoming LSP into single tunnel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Multiplexing Point &gt;= 1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&gt; raising issues ranging from mp2p to mp2mp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&gt; common protocol scop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articular Ca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ysical Constraints &amp; TE Link Selection in Hybrid Photonic Networks (HPN) - rou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eneration in HPN (depends either on switching or encoding) =&gt; cut through through explicit label control - signal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rst Conclu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itability ? Target is NOT exhaustive and fully “universal MPLS” but applicability of common protocols for multiple SC environ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ustification ? Enabling GMPLS collaborative mechanisms by mean of common protocol enhanc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sure backward compatibility w/ current GMPLS protocol suite by guaranteeing handled and limited complex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just deliver some alternatives for doing 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04:02:43Z</dcterms:created>
  <dc:creator>papadimd</dc:creator>
  <dc:description/>
  <dc:language>en-US</dc:language>
  <cp:lastModifiedBy>rbonica</cp:lastModifiedBy>
  <dcterms:modified xsi:type="dcterms:W3CDTF">2002-11-21T13:57:50Z</dcterms:modified>
  <cp:revision>8</cp:revision>
  <dc:subject/>
  <dc:title>GMPLS Architecture for Multi Region Networks</dc:title>
</cp:coreProperties>
</file>