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C48-A514-43EC-8D62-4E53443B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486-23AD-4CEF-99A2-AF2CCC87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10B-26D1-475A-8C20-B35EE3BC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480-AD60-44A3-946C-BE65863B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A5F-D4CC-49F6-BC3B-F6D79E4B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327-E221-4001-A6B0-2DE3B11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377-66ED-4C66-BD32-99097D99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C87-E7D9-4C69-AB5D-E422A950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A42-E3B2-4721-A2ED-37006F2B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40D-576F-4E97-AC28-18F13615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F1A-24BA-402A-A270-67D5584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7B4-C233-4116-B96B-4CDDCADA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1831-2C4C-4547-88E1-AAE78AD0E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covery Terminology for GMPLS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</a:t>
            </a:r>
            <a:r>
              <a:rPr b="1" lang="fr-B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etf-ccam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gmpls-recovery-terminology-01.txt</a:t>
            </a:r>
            <a:br>
              <a:rPr sz="2600"/>
            </a:br>
            <a:br>
              <a:rPr sz="28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alysis of GMPLS-based Recovery Mechanis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aft-papadimitriou-ccamp-gmpls-recovery-analysis-03.tx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MPLS Recovery Functional Specifica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aft-bala-gmpls-recovery-functional-01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867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tection &amp; Restoration Design Team - CCAMP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ETF 55 - Atlanta November’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hared Meshed Recovery &amp; re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Shared Bandwid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isting sub-TLV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Max LSP Bandwidth, Max Reservable Bandwidth and Unreserve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w sub-TL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including Sharable Bandwidth for Recovery R[i] (initial value max_R[i]) and Bandwidth committed for (shared) Recovery r[i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&gt;  Shared recovery ratio per TE Link = (R[i] + r[i]) / r[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Shared Bandwidth and Disjointn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 of SRLG (and optionally list of SRLG) 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rable/Shared Bandwidth per (group of) SRL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 Admission Control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d the Explicit Route of the working LSP over the recovery LS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 impacting on diversity (lookup in the sub-object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35812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xt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v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tional due to potential second hit during to the reversion switching op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urn-on/-off (default behaviour settable per policy) either through signalling or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version op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he same LSP as the one previously under failure (default behaviou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mplies “testing” the LSP (using Admin_Status) before reversion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es the “bridge and switch” a.k.a “make-before-break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eep possibility (e.g. policy or signalling) to clear out the resources on intermediate nodes if reversion switching not possib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Next Step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5880" y="2852640"/>
            <a:ext cx="18795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5880" y="4664160"/>
            <a:ext cx="18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nctional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17640" y="3648240"/>
            <a:ext cx="11178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11560" y="3193920"/>
            <a:ext cx="0" cy="147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193920"/>
            <a:ext cx="0" cy="4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9895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5880" y="6086520"/>
            <a:ext cx="18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MPLS Protocol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35440" y="2909880"/>
            <a:ext cx="48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aft-ietf-ccamp-gmpls-recovery-terminology-01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4757760"/>
            <a:ext cx="408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aft-bala-gmpls-recovery-functional-01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33080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569592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0464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rch’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41008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uly’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005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37720" y="49100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37720" y="6281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38080" y="3004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on the working group consen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hase achievement (~ protocol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report ~ dec’02/jan’03 - Deadline 3q’03 to finalize first phase (including protocol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6576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aft-papadimitriou-ccamp-gmpls-recovery-analysis-03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79132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ug’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6095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Nov’03 (first phase clo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ckup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1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te Computa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---&gt; On-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&gt; Pre-Comp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2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ignalling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---&gt; On-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&gt; Pre-Sign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3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ource Selec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---&gt; On-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&gt; Pre-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4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ource Alloca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quivalent to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ane driven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380988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962520"/>
            <a:ext cx="28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acts the label assignment process - several solutions 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storation Mechanisms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ort Positioning, Status &amp; Tim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371600"/>
            <a:ext cx="28195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105440"/>
            <a:ext cx="2819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nctional Specification (*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743200"/>
            <a:ext cx="1447920" cy="42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82880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1828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3200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495288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6010200"/>
            <a:ext cx="2819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MPLS Protocol Spec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14479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ccamp-gmpls-recovery-terminology-01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743200"/>
            <a:ext cx="579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raft-papadimitriou-ccamp-gmpls-recovery-analysis-03.t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343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bala-gmpls-recovery-functional-01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6019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version to be issued (after agreement on 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6576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4864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276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ril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105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uly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920" y="2286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905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ch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g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1905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March’02 (clo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76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Nov’02 (closed ~ Aug’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105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Nov’02 (closed ~ Nov’02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anks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&amp;R Design T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orah Brung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heer Dharanik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athan 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ngzhi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c Man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tri Papadimitri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 Rajagopa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kov Rekh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Recovery phase analys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hase 1: Failure det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ase 2: Failure localization/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ase 3: Failure 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ase 4: Recovery (protection/resto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Times New Roman"/>
              </a:rPr>
              <a:t>Phase 5: Reversion (normal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ocus on Phase 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overy mechanisms and sc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vides classification of the restoration schem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 Focus on Phase 6 - Reversion (Norm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Horizontal &amp; vertical hierarchy, Escalation strategies  and Disjoin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 Dimensions for recovery Scheme/Strategy analysis: fast convergence, efficiency, robustness &amp; resource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me words about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alysis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covery Mechanisms Applic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th Search (computation and sel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e-planned (Pre-signalling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ynam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faster recovery           | Does not a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less flexible 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1 | - less robust   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most resource consum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|   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&gt; LSP protect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u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latively fast recovery  | Does not a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latively flexible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2 | - relatively robust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source consumption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  depends on sharing degree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&gt; recovery LSP activation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latively fast recovery  | - less faster (compu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more flexible             | - most flex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3 | - relatively robust         | - most rob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less resource consuming   | - least resource con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(depends on sharing degree) 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&gt; LSP re-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=&gt; reservation + activation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me words about the functional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sion -01.txt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Details the protocol mechanisms (message exchange) and information to be carried to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implemen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these mech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Deliver separately a protocol (message oriented) specification covering the “analyzed” recovery mech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me words about the functional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pan (Link)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i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-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dicated 1:1 protection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hared M:N protection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d-to-End (LSP/LSP segment)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i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-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dicated 1:1 recovery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hared M:N recovery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hared Meshed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ersion and other Administrative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ssues and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) Bulk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2) Shared Meshed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3) Re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lk LSP Recovery on Link fail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case of (component) link failure of a TE Link carrying numerous L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undle notification messages does not need additional extension if within the same Interface-ID TLV (Extended IF_ID Error_Sp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ster for the affected LSPs may be located at each side of the TE link =&gt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wo masters may compete for the same component link (within the same TE link) resource for recovering these L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ever, they may (even prior to the failure) agree on which (common) recovery link these LSPs will be recovered otherwise some fragmentation of the TE link components usage may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46:51Z</dcterms:created>
  <dc:creator>papadimd</dc:creator>
  <dc:description/>
  <dc:language>en-US</dc:language>
  <cp:lastModifiedBy>rbonica</cp:lastModifiedBy>
  <dcterms:modified xsi:type="dcterms:W3CDTF">2002-11-21T13:58:53Z</dcterms:modified>
  <cp:revision>33</cp:revision>
  <dc:subject/>
  <dc:title>Draft-design-team-gmpls-recovery-analysis-00.txt</dc:title>
</cp:coreProperties>
</file>